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FFE-2CEF-459F-84F3-57F7FF04B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73A-64E3-465F-8A6E-7EC8F6BCD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597-D1D1-47E9-BBC7-2C0AB8B6A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B04C-DCD0-4428-9F86-440CF6CAFD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9BA-F232-4C6D-AD2B-8414928DC3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CAF-194A-496C-9780-3D7ED5181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FE5-E322-4957-8F27-12DCBD89E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FBE1-CAA5-43D9-B670-BC5E37EF3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B.  When you remove the –re infinitive ending from a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JUGATION VERB, the short “e” also falls off (It’s too weak to hang 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esent tense, you squeeze in the letter –i- to attach endings ,-s,-t,-mus,-tis; -u- before –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o verbs like facio, capio, fugio, already come with that –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3E0E-04C0-44DA-93F7-509BB41732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5F0-1E54-4279-B1CD-BC9A25E6D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F34-29FC-4731-9036-F8FDB6C6A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72B-CF85-43F4-B155-874C818F5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4E79-0D69-4D0B-A2D4-9ED2F2D91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13E-8D92-4424-880E-DD1FE9189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FC3A-A35C-4ACA-832A-2C1EB5B3D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BE1-93B7-4773-BCC3-68FC3FA9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6BA-52B2-42E1-B6D6-15047A3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A10-F8B7-4435-9F6E-75425030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608-7914-4FD6-9360-56AC6EB5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48C-5B67-4686-A0DE-FF4F1D2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460-06F7-4E69-8D9F-6AB3FC8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DD3A-F033-43AA-9B11-EC2BD8D3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9D55-8C4C-4AC2-9F27-C20067F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140A-1BC8-41C3-9725-81926E4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001-150E-42B2-AA74-FB24AD0C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D1F-03F2-49DA-9493-F387852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1D6-FC9D-475C-9D38-A49F621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C5EA-F1B2-4DCA-BFBC-5CC796D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5E65-21CD-4388-905E-BE08F2C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CC0A-2D39-4EFD-AD68-905AD74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9528-E579-4600-BD25-0C9C14BF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3CB5-9A86-4387-BD94-19F8575E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3AB-C260-437E-A8A9-D87EEFAD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026-C1DF-4714-BA6A-9F53E82D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DB8-D482-40B5-95E3-A5B459C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25B-D37D-4A99-9CE1-1EF0C8C7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F40-3B74-4E33-9FB2-959B0B0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00D-4403-4F55-BEAE-ADEE835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BD0-2E71-4753-B161-B5657E2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1281-726F-4E74-BAD5-3A5AB2BF4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74D-2805-444A-85F2-CA8D752D7E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RMING LATIN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VERB TENS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to turn any* Latin verb into any t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* Any regular verb; these are irregular in the present, imperfect and future: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um, possum, volo, nolo, eo, fe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se PERFECT ENDINGS are used only on the PERFECT TENS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are them to the normal personal endings used on other ten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945720" y="3056040"/>
            <a:ext cx="113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286000" y="3048120"/>
            <a:ext cx="236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s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ru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THE PLUPERFECT TE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-era-+ normal endings to the PERFECT stem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52280" y="175248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80060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7010280" y="1828800"/>
            <a:ext cx="2133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275480" y="5526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anslate all forms into English with “HAD  ……ED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THE FUTURE PERFECT TEN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–eri-+ normal endings to the PERFECT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1752480"/>
            <a:ext cx="2133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800600" y="1828800"/>
            <a:ext cx="2133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7010280" y="1828800"/>
            <a:ext cx="2133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04920" y="57150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B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. –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e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nding on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erson singular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EP THE –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ERI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erson pl, to distinguish it from the PERFECT -ERU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RANSLATING THE PERFECT TEN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45400" y="346248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:  I  loved, I HAVE loved; he loved, he HAS lov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67080" y="4317840"/>
            <a:ext cx="73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UPERFECT:  I HAD loved  ---all forms need the word “HAD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-86040" y="5257800"/>
            <a:ext cx="9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TURE PERFECT:  I WILL  HAVE loved– all forms need the words “WILL HAV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-out of the 6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ways start with the principal parts to get the proper stem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mo, amare          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amav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PR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amo, 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, amat…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ER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, amavisti, amav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IMPEF   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m,amabas…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LUPER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am, amavera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FUTURE  am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, amabis,…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UT. PER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o, amaveri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3 tenses use the PRESENT STEM from the INFIN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st 3 tenses use PERFECT STEM from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incipal pa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FINI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903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t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dio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666880" y="1600200"/>
            <a:ext cx="548640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e &gt;&gt; stem ends in –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Ere &gt;&gt; stem ends in -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e &gt;&gt; stem ends in –t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ere &gt;&gt; stem ends in –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re &gt;&gt; stem ends in -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AKE THE PRESENT TENSE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d person endings to the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114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895480" y="1676520"/>
            <a:ext cx="221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105520" y="16002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u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934320" y="1676520"/>
            <a:ext cx="2209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u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IMPERFECT TENS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57e6f5"/>
                </a:solidFill>
                <a:latin typeface="Arial"/>
              </a:rPr>
              <a:t>ba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+endings to the stem</a:t>
            </a:r>
            <a:br>
              <a:rPr sz="4000"/>
            </a:b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for 3</a:t>
            </a:r>
            <a:r>
              <a:rPr b="0" lang="en-US" sz="27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 and 4</a:t>
            </a:r>
            <a:r>
              <a:rPr b="0" lang="en-US" sz="27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cc66"/>
                </a:solidFill>
                <a:latin typeface="Arial"/>
              </a:rPr>
              <a:t> conj, “glue in” the –ba- with an “–e’”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228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81952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105520" y="2362320"/>
            <a:ext cx="2209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93432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e</a:t>
            </a:r>
            <a:r>
              <a:rPr b="0" lang="en-US" sz="2400" spc="-1" strike="noStrike">
                <a:solidFill>
                  <a:srgbClr val="57e6f5"/>
                </a:solidFill>
                <a:latin typeface="Verdana"/>
              </a:rPr>
              <a:t>b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FUTURE TENSE #1-2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e06ce0"/>
                </a:solidFill>
                <a:latin typeface="Arial"/>
              </a:rPr>
              <a:t>bi*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+endings to the ste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90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a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u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952880" y="1981080"/>
            <a:ext cx="221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i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e</a:t>
            </a:r>
            <a:r>
              <a:rPr b="0" lang="en-US" sz="3200" spc="-1" strike="noStrike">
                <a:solidFill>
                  <a:srgbClr val="e06ce0"/>
                </a:solidFill>
                <a:latin typeface="Verdana"/>
              </a:rPr>
              <a:t>bu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48280" y="5950080"/>
            <a:ext cx="77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*notice how the –bi- changes to –bo in 1</a:t>
            </a:r>
            <a:r>
              <a:rPr b="0" lang="en-US" sz="2000" spc="-1" strike="noStrike" baseline="30000">
                <a:solidFill>
                  <a:srgbClr val="e06ce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 sg, and to –bu in 3</a:t>
            </a:r>
            <a:r>
              <a:rPr b="0" lang="en-US" sz="2000" spc="-1" strike="noStrike" baseline="30000">
                <a:solidFill>
                  <a:srgbClr val="e06ce0"/>
                </a:solidFill>
                <a:latin typeface="Tahoma"/>
              </a:rPr>
              <a:t>rd</a:t>
            </a:r>
            <a:r>
              <a:rPr b="0" lang="en-US" sz="2000" spc="-1" strike="noStrike">
                <a:solidFill>
                  <a:srgbClr val="e06ce0"/>
                </a:solidFill>
                <a:latin typeface="Tahoma"/>
              </a:rPr>
              <a:t> p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E THE FUTURE TENSE #3-4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dd –</a:t>
            </a:r>
            <a:r>
              <a:rPr b="0" lang="en-US" sz="4000" spc="-1" strike="noStrike">
                <a:solidFill>
                  <a:srgbClr val="e06ce0"/>
                </a:solidFill>
                <a:latin typeface="Arial"/>
              </a:rPr>
              <a:t>a/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+endings to the ste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219320" y="1981080"/>
            <a:ext cx="2209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095880" y="1905120"/>
            <a:ext cx="221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di</a:t>
            </a:r>
            <a:r>
              <a:rPr b="0" lang="en-US" sz="2400" spc="-1" strike="noStrike">
                <a:solidFill>
                  <a:srgbClr val="e06ce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200400" y="198108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</a:t>
            </a:r>
            <a:r>
              <a:rPr b="0" lang="en-US" sz="2400" spc="-1" strike="noStrike">
                <a:solidFill>
                  <a:srgbClr val="e06ce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PERFECT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0440" y="1750680"/>
            <a:ext cx="792936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use a PERFECT STEM FROM THE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PRINCIPAL P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5800" y="3048120"/>
            <a:ext cx="304812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o, am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eo, ten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o,  pet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o,  cap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o,  audi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9880" y="2971800"/>
            <a:ext cx="4343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ma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I have lo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en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I have h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t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= I have sou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e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 I have tak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ud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= I have he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THE PERFECT TEN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PERFECT person endings to the 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7920" y="213372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0880" y="2133720"/>
            <a:ext cx="2133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ma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724280" y="20574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7010280" y="20574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FECT ENDINGS aga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60160" y="1828800"/>
            <a:ext cx="21351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n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52280" y="175248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80060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e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010280" y="1828800"/>
            <a:ext cx="2133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udiv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u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20:35Z</dcterms:created>
  <dc:creator>St. Ignatius College Prep</dc:creator>
  <dc:description/>
  <dc:language>en-US</dc:language>
  <cp:lastModifiedBy>CFF</cp:lastModifiedBy>
  <dcterms:modified xsi:type="dcterms:W3CDTF">2010-03-08T02:55:24Z</dcterms:modified>
  <cp:revision>5</cp:revision>
  <dc:subject/>
  <dc:title>FORMING LATIN  VERB TENSES</dc:title>
</cp:coreProperties>
</file>